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1D3-F2CF-4E47-9BF5-5DF16F1C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B2A-0177-46F9-B5E9-247B50A3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3B5-9C2E-40B9-8362-A8B2B7C2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A8D-DAAB-4381-B150-96FA0E8E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BDA-4CCE-4B49-B4BD-2582D457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AEB-8346-476F-B893-339EB19A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74E-98F9-4AED-A1C7-699FE822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F84-6C61-45F8-B45D-74FEC92F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860-6D01-4D63-B4F0-80A67296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180-947A-44D2-8A09-D1AEA7E1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1B5-1555-4840-A500-AB57832D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17E-3F1E-442D-ABBA-AFCD2D93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BAC6-06C9-4EDC-BF7D-F9C3107AE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ami véget ér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zdődik más talá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átod megyünk az élet sivatagán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yere mert lépni muszáj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inte hallom, újra hallom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ól a régóta vándorlók dala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den délben, minden éjjel hallom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gy zeng a dalla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éha sötétség vár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unkba fúj a szél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bátran megyünk lábunk egyszerre lép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enünk eszközeként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inte hallom, újra hallom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ól a régóta vándorlók dala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den délben, minden éjjel hallom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gy zeng a dalla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kan megálltak már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ég volt a beszéd.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ész életünk itt a keresztre néz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rtjük már üzenetét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inte hallom, újra hallom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ól a régóta vándorlók dala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den délben, minden éjjel hallom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gy zeng a dalla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i sír, ne sírjon, emeld a fáradtat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zen minden nap itt van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ünk mara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jra szóljon ez a dal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inte hallom, újra hallom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ól a régóta vándorlók dala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den délben, minden éjjel hallom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gy zeng a dalla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7T12:23:12Z</dcterms:created>
  <dc:creator>Baptista Gyülekezet</dc:creator>
  <dc:description/>
  <dc:language>en-US</dc:language>
  <cp:lastModifiedBy>Baptista Gyülekezet</cp:lastModifiedBy>
  <dcterms:modified xsi:type="dcterms:W3CDTF">2005-12-31T18:58:51Z</dcterms:modified>
  <cp:revision>5</cp:revision>
  <dc:subject/>
  <dc:title>Valami véget ér,  kezdődik más talán, Látod megyünk az élet sivatagán,  gyere mert lépni muszáj!</dc:title>
</cp:coreProperties>
</file>